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D94-15D0-4675-A142-DE51F49C8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Chlo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l5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can be used to conver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ic acid to an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ves of meth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E70-3150-4182-AB4B-86D5D279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D45-A2DE-47C5-BD2F-73B5CE6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022-0E02-4A90-86E9-12102E94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2E5-68FF-4EF1-80BD-5C671A1F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3B2-1FEF-40BC-BC0E-7D8B08F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3C7-81F5-4098-B0F6-97F7B70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04A-A018-44B2-AB5B-38BC926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E33-20D9-4FC7-B80B-698DC288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BCD-4786-4529-8F55-F5A91F6E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58A-637C-4B16-8C60-614A8A3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210-3476-46BA-B34D-A4B8BB0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294-2D7C-4051-9474-B0486BA7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C1B-AC34-446B-B866-716AABC7B1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Derivatives</a:t>
            </a:r>
            <a:r>
              <a:rPr b="1" lang="en-NZ" sz="72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of </a:t>
            </a:r>
            <a:br>
              <a:rPr sz="7200"/>
            </a:br>
            <a:r>
              <a:rPr b="1" lang="en-NZ" sz="7200" spc="-1" strike="noStrike">
                <a:solidFill>
                  <a:srgbClr val="ff0000"/>
                </a:solidFill>
                <a:latin typeface="Chiller"/>
              </a:rPr>
              <a:t>Acid Chlorid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75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92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000" y="2421000"/>
            <a:ext cx="90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997360"/>
            <a:ext cx="81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2752920" cy="2428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86980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097280" y="34480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663640" cy="247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174200" y="177336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64080" y="119700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else can be used to convert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carboxylic acid to an acid chlo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Chiller"/>
              </a:rPr>
              <a:t>Derivatives of methanoyl chlor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59480" y="3736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1765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1840" y="23684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364000" y="256536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630960" y="184464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900000" y="2492280"/>
            <a:ext cx="1944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>
            <a:off x="2916360" y="2924280"/>
            <a:ext cx="223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219564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492360" y="3860640"/>
            <a:ext cx="9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383080" y="436572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02240" y="350028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900000" y="573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2916360" y="6093000"/>
            <a:ext cx="21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3918240" y="5229360"/>
            <a:ext cx="50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8000"/>
                </a:solidFill>
                <a:latin typeface="Chiller"/>
              </a:rPr>
              <a:t>What is the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64000" y="573408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thy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than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330360" y="56088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111E-006 L -0.48437 -0.00533 E">
                                      <p:cBhvr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5.55556E-007 0.2625 E">
                                      <p:cBhvr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00382 0.25208 E">
                                      <p:cBhvr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2:52:12Z</dcterms:created>
  <dc:creator>mun091</dc:creator>
  <dc:description/>
  <dc:language>en-US</dc:language>
  <cp:lastModifiedBy>RomaK</cp:lastModifiedBy>
  <dcterms:modified xsi:type="dcterms:W3CDTF">2015-09-01T16:21:55Z</dcterms:modified>
  <cp:revision>8</cp:revision>
  <dc:subject/>
  <dc:title>Derivatives of methanoyl chloride</dc:title>
</cp:coreProperties>
</file>